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54817"/>
        <c:axId val="91239732"/>
      </c:barChart>
      <c:catAx>
        <c:axId val="201548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39732"/>
        <c:crosses val="autoZero"/>
        <c:auto val="1"/>
        <c:lblAlgn val="ctr"/>
        <c:lblOffset val="100"/>
        <c:noMultiLvlLbl val="0"/>
      </c:catAx>
      <c:valAx>
        <c:axId val="91239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548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7AE-FE8D-4939-BAE0-3035252A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019-A1F3-49F5-BCE5-D799A453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B30-94FF-4B3E-BC4F-71A20594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F86-506B-40B7-B9DE-88CC2126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07C8-5B0C-4417-A407-FBFC6C04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586-33F2-43C0-A131-8A071AB4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F0A-DFA1-4875-BE75-93DAC53C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58A-008E-4E86-B784-1E547D32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45C7-F799-4E25-9802-98BED4FC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350-D9BB-402F-9000-5CE35775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6E6-E4D9-4F24-8FB3-F6F879D9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7A2-A717-4716-82AB-97CF72A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D4CB3-F45C-44E7-A166-0D53A19831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