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476895"/>
        <c:axId val="33548852"/>
      </c:barChart>
      <c:catAx>
        <c:axId val="864768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548852"/>
        <c:crosses val="autoZero"/>
        <c:auto val="1"/>
        <c:lblAlgn val="ctr"/>
        <c:lblOffset val="100"/>
        <c:noMultiLvlLbl val="0"/>
      </c:catAx>
      <c:valAx>
        <c:axId val="335488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768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A060-DFA2-4D70-BC16-F340B8138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FDF4-FD05-4D4E-90B5-4624D3B0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B325-6375-4987-A102-88F47F832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CBCD-87F6-44C2-8AE5-F3E86C8D9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6797-5040-4B0E-91A1-B31707B2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0FD8-0F8F-44E6-9D32-AD721C03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3480-E735-482A-BF70-0724B07A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E9AD-8037-4C2A-BB88-53A09666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9B4D-A6F8-4594-BA1F-6FEA1226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C1AD-F37A-4148-B4BA-79BED304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3C01-9865-41C7-B93C-EF3EF7EE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7BE0-06B4-4FE5-BCFF-70CED75E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61828D-A34D-4744-9524-6474B1A905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