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45014"/>
        <c:axId val="31595896"/>
      </c:barChart>
      <c:catAx>
        <c:axId val="14145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95896"/>
        <c:crosses val="autoZero"/>
        <c:auto val="1"/>
        <c:lblAlgn val="ctr"/>
        <c:lblOffset val="100"/>
        <c:noMultiLvlLbl val="0"/>
      </c:catAx>
      <c:valAx>
        <c:axId val="31595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45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7ED-A20C-4873-9789-382D8B64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B5E-B555-4779-AA05-6E17B835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412-C754-4752-9CC4-1EBFBCDC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407-C352-44F4-A128-825FEA94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534-9826-4A9B-8C74-0C06D7B1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260-CAB2-4671-8306-65224A13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30C0-F917-470F-BE2C-0E8DB65F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2E0-D43A-4430-B740-31F9FE4D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445-5DAD-45CC-A739-18AFB27A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682-5D7D-45B9-91E2-48E5684B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1D4-6490-467D-9AC6-08413E67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14E-B1A5-44E0-A18A-3BBE7D97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AD66-021C-4E2D-AD7B-6F6637B12C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