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236342"/>
        <c:axId val="69872258"/>
      </c:barChart>
      <c:catAx>
        <c:axId val="322363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872258"/>
        <c:crosses val="autoZero"/>
        <c:auto val="1"/>
        <c:lblAlgn val="ctr"/>
        <c:lblOffset val="100"/>
        <c:noMultiLvlLbl val="0"/>
      </c:catAx>
      <c:valAx>
        <c:axId val="698722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2363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73AE-8264-4CA8-BCE2-0794E2EBC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0CD9-F29A-4916-A740-5D2235F5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504D-6F67-436B-B98B-BFFF921E6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E85F-C74F-41CE-88EE-4764EB499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E8EA-8BB4-49BB-8052-7970B542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E126-C951-4BB5-BB6F-CC6A3997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AC20-C084-445B-9543-0D90BD34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4FFD-F87D-411B-984C-1BCB8743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D2E0-25DE-499B-AACF-40A0C143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DF26-D780-45CF-B40C-53633B73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AC96-0D6B-4B14-A748-3B09BF50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07C0-C030-4825-834B-0C3733C1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9D723E-DAD4-4B78-8548-62112141E4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