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12796"/>
        <c:axId val="69863305"/>
      </c:barChart>
      <c:catAx>
        <c:axId val="55912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63305"/>
        <c:crosses val="autoZero"/>
        <c:auto val="1"/>
        <c:lblAlgn val="ctr"/>
        <c:lblOffset val="100"/>
        <c:noMultiLvlLbl val="0"/>
      </c:catAx>
      <c:valAx>
        <c:axId val="69863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2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ACD-9E6D-4D11-98E6-2CD9DEBA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398-F37D-47D1-91E1-69A3884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BBD-2205-4E5E-9DBE-430ACAA2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759-301C-42B3-B24E-44CAAB2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653-7B74-4954-A084-2402C98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8AA-5E8A-459F-82C8-254C8F5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517-0F0E-4F4A-939B-86EE1F92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B65-3EA1-4C00-A757-112146C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AB1-8ACA-46B8-B68C-FDD50B3C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43E-001E-4F1F-84A3-4C815F2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C35-475B-4EAB-A73A-BE251C6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BED-062D-4310-9604-F70B47B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284DC-991B-4AC8-9421-B14130B34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