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70186"/>
        <c:axId val="11561899"/>
      </c:barChart>
      <c:catAx>
        <c:axId val="582701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61899"/>
        <c:crosses val="autoZero"/>
        <c:auto val="1"/>
        <c:lblAlgn val="ctr"/>
        <c:lblOffset val="100"/>
        <c:noMultiLvlLbl val="0"/>
      </c:catAx>
      <c:valAx>
        <c:axId val="11561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701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FEB-53DC-4018-BB09-5235E7CE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433-47D4-45F0-8678-2E2E5D1E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CC3-EA1C-445B-93DB-F9D01F97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459-FE6B-420C-A701-C3EF7DFA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2C9-4D50-4E19-9A8A-C8DEC6FF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5A1-DCD0-4684-9760-BEF79431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7A3-C10C-44F0-8EA8-C6C13E25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D24-52BF-48A7-AF25-B732529C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257-B189-443B-91E0-69CD7A14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6A4-2DD0-4500-8709-455249D7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4F4-7BF3-4DEB-8B3A-30F55300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71F-B79F-4117-8CF0-261C3F8A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C3A32-48DD-479B-8776-D4A540669C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