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27419"/>
        <c:axId val="78595901"/>
      </c:barChart>
      <c:catAx>
        <c:axId val="61227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95901"/>
        <c:crosses val="autoZero"/>
        <c:auto val="1"/>
        <c:lblAlgn val="ctr"/>
        <c:lblOffset val="100"/>
        <c:noMultiLvlLbl val="0"/>
      </c:catAx>
      <c:valAx>
        <c:axId val="78595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27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CC9-B215-467A-A1D6-2F836917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A8E-B6DB-4EBB-9D73-D3B72877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B99-4E98-407E-9267-2984723D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68E-F0F0-4046-B7F8-34EDAC0D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638-5D0A-43C2-9AEF-0927D81A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903-33E0-410A-9F94-0089500E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364-A033-4FCB-988B-B0798429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654-C437-46DD-81E6-B2C03612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CF9-5EDC-4D77-A1C4-2E6B2501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F58-A955-40AA-9938-C42A134D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264-A939-4E63-866A-FCDFD7CE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9ED-DECD-44CB-A8E8-910712C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3F8BA-AC0E-4284-8C7A-FA29C444B3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