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6527"/>
        <c:axId val="59205155"/>
      </c:barChart>
      <c:catAx>
        <c:axId val="3476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05155"/>
        <c:crosses val="autoZero"/>
        <c:auto val="1"/>
        <c:lblAlgn val="ctr"/>
        <c:lblOffset val="100"/>
        <c:noMultiLvlLbl val="0"/>
      </c:catAx>
      <c:valAx>
        <c:axId val="59205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6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5AC-935A-44E3-A2CC-0B3F4975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EE0-7701-4ECB-AB9F-FC05DE15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245-91EA-439A-971F-53149031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4E8-03F0-494A-ACCC-B0878FC7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FA0-6D3D-4DEB-833B-B0EE7467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EBE-1815-4B8E-A20C-C9217BA0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D67-470C-4F1B-BB40-F181138B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29C-654F-4874-8C69-7F90B5C5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374-CF09-4E3E-9936-9F7F992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4FE-DAE7-49E0-A88B-2A7E354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537-FF87-41E3-ABE7-6BA4409A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7B4-767C-4F8B-985A-4D611275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A6B3-DF4E-438C-AB4B-9017E19B83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