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61769"/>
        <c:axId val="55437438"/>
      </c:barChart>
      <c:catAx>
        <c:axId val="30561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37438"/>
        <c:crosses val="autoZero"/>
        <c:auto val="1"/>
        <c:lblAlgn val="ctr"/>
        <c:lblOffset val="100"/>
        <c:noMultiLvlLbl val="0"/>
      </c:catAx>
      <c:valAx>
        <c:axId val="55437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61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35F-BC35-4DCB-A87E-76002A3D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568-1DA5-4815-81B6-C81FC41C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BAA-4A0F-4CDD-A72A-CB13BF7F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0EF-82F5-4AE8-8563-A8C4EAC4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4AF-394C-4391-937B-DA8DB8ED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2D5-D1D9-4D3B-BC55-126B4DD7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594-64B5-4A0C-B93D-B34299DB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532-9564-47C2-BF7E-A5E814DA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BD2-0124-4847-8E80-75E53D68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B9A-12CE-4245-9EF7-4FF2F1E5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8AE-3AF3-4457-A86F-FC3435B9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66F-1A5A-4DA8-900A-436F9F7D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0496F-7412-4DA3-B0C7-9A73AA240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