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1312"/>
        <c:axId val="60487014"/>
      </c:barChart>
      <c:catAx>
        <c:axId val="58991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7014"/>
        <c:crosses val="autoZero"/>
        <c:auto val="1"/>
        <c:lblAlgn val="ctr"/>
        <c:lblOffset val="100"/>
        <c:noMultiLvlLbl val="0"/>
      </c:catAx>
      <c:valAx>
        <c:axId val="60487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1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462-A45B-49D6-8F69-BDB84C05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635-A8C8-4971-939E-BB0B45D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4D6-1E98-499B-BD60-BCF025E5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9D4-E9B5-46FB-9CEA-9502B056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FE7-0B64-48A4-90FB-2806513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88D-2E70-4721-BD26-7223E20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E0B-BF31-4F17-9686-1D9C718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5D2-BCAE-4C16-9E32-10247BC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7AA-7C92-4968-AE31-C92F3CD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B36-8339-43EF-9936-A11933D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6E6-18D5-4C5E-A33A-6402161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6F5-4B34-4DC4-A685-17FE530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2EAF1-B595-4540-855B-377169280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