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21615"/>
        <c:axId val="85460821"/>
      </c:barChart>
      <c:catAx>
        <c:axId val="61921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60821"/>
        <c:crosses val="autoZero"/>
        <c:auto val="1"/>
        <c:lblAlgn val="ctr"/>
        <c:lblOffset val="100"/>
        <c:noMultiLvlLbl val="0"/>
      </c:catAx>
      <c:valAx>
        <c:axId val="85460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21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03D-701B-4C36-8EEC-C134107E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233-6024-4209-9219-AACC4560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003-2C7A-4C72-A3D6-951B3A80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4C3-2F52-41A8-8A18-80C70B16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D92-BE33-49FC-8946-E77ABC71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480-0BFD-4367-906F-87A64F3B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86E-911F-4E78-AAF6-EB5F4D2A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F85-FF75-47E6-B115-6AAB1E27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212-01CC-4AFB-8038-B347234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5D0-F3A4-4731-BEB9-3D17B977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858-FA34-4499-AF42-033CB79E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F7A-F48D-4F56-B657-A43E6B4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3BAD4-952F-4D27-A167-ABA0BA2C10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