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1127802"/>
        <c:axId val="21592121"/>
      </c:barChart>
      <c:catAx>
        <c:axId val="5112780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592121"/>
        <c:crosses val="autoZero"/>
        <c:auto val="1"/>
        <c:lblAlgn val="ctr"/>
        <c:lblOffset val="100"/>
        <c:noMultiLvlLbl val="0"/>
      </c:catAx>
      <c:valAx>
        <c:axId val="2159212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112780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154AF-5B8D-4844-B513-6A6D7000C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1AC44-124D-4208-80AC-B52168144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FAB4D-43E9-4C17-A7DB-B9A447DCC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4F5F0-F78D-4A4E-B08E-FFCE0CBD3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BCEBA-F627-460E-9AB6-CBA6380DB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5EEC6-1ED4-49EF-9615-B0C088BA8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DCE77-B9BD-4777-AA2F-6974A4524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966E9-063C-40C3-9AB4-26239C671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8CAE1-487A-4C82-97F9-FAD0EB1DD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8FD10-AC68-433D-9354-91644E7D8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A8623-AFE8-4628-B3F1-EE7AC5012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A85CA-9933-4727-97A1-35E5FC50F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290C05-9932-4DD0-9912-EC993722BEF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