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7599"/>
        <c:axId val="91775564"/>
      </c:barChart>
      <c:catAx>
        <c:axId val="1367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75564"/>
        <c:crosses val="autoZero"/>
        <c:auto val="1"/>
        <c:lblAlgn val="ctr"/>
        <c:lblOffset val="100"/>
        <c:noMultiLvlLbl val="0"/>
      </c:catAx>
      <c:valAx>
        <c:axId val="91775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7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0F1-AB97-472D-B6E3-B64E9856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A0E-BF6B-42E0-B56D-D2EEBD1E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7E2-615A-4DE5-AB85-BAE5F693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0E9-F3FC-434B-B1E2-D7BF8283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CC6-77E3-4460-BFAC-21D0CCD9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5BF-8115-4585-ADF3-45B5CB53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E8C-1350-4DE7-B153-609E3097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EEF-DA7D-47BF-9B1D-FC860FD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87C-1363-43C7-B077-2E0493E5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CB5-B376-4511-8F2B-E13BBDA1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38B-15F8-4FF3-BA4E-5F43D63B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53C-0F7D-4A47-8362-2F5144E8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9403A-4FD2-4BB3-AE65-45C854D1B0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