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78706"/>
        <c:axId val="64668340"/>
      </c:barChart>
      <c:catAx>
        <c:axId val="60078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68340"/>
        <c:crosses val="autoZero"/>
        <c:auto val="1"/>
        <c:lblAlgn val="ctr"/>
        <c:lblOffset val="100"/>
        <c:noMultiLvlLbl val="0"/>
      </c:catAx>
      <c:valAx>
        <c:axId val="64668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78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C6A-CE07-471B-9C88-946FC794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BA4-1FD4-4020-8D3B-2BFA9347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344-FC37-4476-8932-E39E605E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747-6F90-4E7E-A3A8-909B9264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1EAF-7304-42C7-89B0-8ED82DB5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DA1-726F-4047-82A4-75E367C5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440-990E-402E-BBAE-FBCA4785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2C6-B3D0-42DD-9810-7CCF324A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CB88-3564-4E1D-9129-C77F4A3E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893-40F8-43DB-B608-D5F35B9C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766-9D2A-47F8-BEA1-C30ED4DC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0B3-1E87-499F-90D9-8C5D2E79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13915-2815-45A7-8E27-167A534C9A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