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805561"/>
        <c:axId val="73930145"/>
      </c:barChart>
      <c:catAx>
        <c:axId val="508055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930145"/>
        <c:crosses val="autoZero"/>
        <c:auto val="1"/>
        <c:lblAlgn val="ctr"/>
        <c:lblOffset val="100"/>
        <c:noMultiLvlLbl val="0"/>
      </c:catAx>
      <c:valAx>
        <c:axId val="739301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8055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D7A1-D21F-442D-887B-8C2595F6A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4C5C-D500-410E-9069-8D51FC67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CC46-A184-4123-889D-93163681B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2840-A247-4607-80F3-5488B91DB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A8FA-173D-47A1-9C38-9E118D36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1FE6-50E6-420E-936C-3931AE94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471B-748F-4912-8EE4-D53254E6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F710-D174-4D53-B41E-E9B9B9AA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54B4-A19B-404D-9845-8D1FA96B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7B72-3286-46B8-862E-FE62FFA9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30BF-AE4E-4DF8-8D12-10472F89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B699-0B04-4C5E-8089-3ACEAEC1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88D6C-20EF-4AAB-AD7F-A960B265FF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