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304640"/>
        <c:axId val="66994729"/>
      </c:barChart>
      <c:catAx>
        <c:axId val="223046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994729"/>
        <c:crosses val="autoZero"/>
        <c:auto val="1"/>
        <c:lblAlgn val="ctr"/>
        <c:lblOffset val="100"/>
        <c:noMultiLvlLbl val="0"/>
      </c:catAx>
      <c:valAx>
        <c:axId val="669947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3046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5459-94F4-442C-AE86-941393D2B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D2CF-4F91-4D49-9854-2432FA3C2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8AF1-CE5C-446B-ADF3-3F1D69C9D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27FA-4358-43C2-B312-FA9CEB8D7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F3B5-14EC-4CD7-8096-F0DE4B095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9CAB-F211-4259-9E5E-3C95D7497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0985-4BB5-4503-A33B-5043DB238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AA54-A4C3-41EF-AB5C-0D0C57476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BF1B-3687-4732-94E5-742193208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226E-7009-4466-9388-4991D328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835F-5BBF-4929-877F-7A1DF7DF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F154-AE89-4BA6-8FAF-00893BED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9A8CED-12C1-4734-AE10-51DEC13FC8B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