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18549"/>
        <c:axId val="50781691"/>
      </c:barChart>
      <c:catAx>
        <c:axId val="72418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81691"/>
        <c:crosses val="autoZero"/>
        <c:auto val="1"/>
        <c:lblAlgn val="ctr"/>
        <c:lblOffset val="100"/>
        <c:noMultiLvlLbl val="0"/>
      </c:catAx>
      <c:valAx>
        <c:axId val="50781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18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D0B-2AF0-4AEC-9B49-D5DB3C18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B2E-B03B-4B65-B4D4-DCC0AE43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DBF-88BB-420A-9532-756CBD48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8F2-2918-4D11-9607-C5F65736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268-7444-400A-8E47-DA3047B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3F4-160A-4A90-BB5B-3FB605B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3BE-615D-440B-AD1F-132EC657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189-068D-4CD9-A8E3-7753C9C0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A60-C14D-472C-A9DF-0AE4F1F7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8CC-BF86-4C95-BDA1-8AC8A87A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E89-A133-48B3-B3B8-70E10B1A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14B-4399-433D-B60E-CDFD927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B99B-BABF-4F91-AC1A-9DD3A23E6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