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54124"/>
        <c:axId val="50088377"/>
      </c:barChart>
      <c:catAx>
        <c:axId val="444541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88377"/>
        <c:crosses val="autoZero"/>
        <c:auto val="1"/>
        <c:lblAlgn val="ctr"/>
        <c:lblOffset val="100"/>
        <c:noMultiLvlLbl val="0"/>
      </c:catAx>
      <c:valAx>
        <c:axId val="500883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541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F96-AF92-4F09-B2EA-685EDACD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018A-11B9-407D-932D-D63FAFBF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314A-1AD8-4699-8892-DE9E1E1B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3819-5733-400A-BC94-98EC0E4C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1CD7-A185-431F-8D5C-A664B144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C9AE-F484-4E8C-9919-3168F6C5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203-D215-4C49-99D3-40568DFC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73B0-97D1-4B8B-8CAE-F5D76F63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0D10-1280-4D15-8700-C3085918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0E9-0720-48C4-8ADE-6CA36A49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0AE-0C5A-4965-BBC2-E7864ACB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236-61AA-478A-9119-C25C8077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57C07-1175-4399-AC60-5D2C375E42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