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70559"/>
        <c:axId val="29462412"/>
      </c:barChart>
      <c:catAx>
        <c:axId val="78570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2412"/>
        <c:crosses val="autoZero"/>
        <c:auto val="1"/>
        <c:lblAlgn val="ctr"/>
        <c:lblOffset val="100"/>
        <c:noMultiLvlLbl val="0"/>
      </c:catAx>
      <c:valAx>
        <c:axId val="2946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0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705-9C6A-4433-8769-CD18F78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DEE-AF9B-4C1A-A8AF-05F5C8D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C18-9CFB-40AF-B711-E9849AD8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894-20EB-44C5-8231-B7463C76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885-EC84-4066-930E-59EA43E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57D-810E-4196-9B9B-2F518BF2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615-17B9-4EE7-A4F9-A9027FC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F6F-906B-4A2E-8F17-BA45D7CA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021-16A0-4A44-92B6-C0452A8E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69B-A7B7-43D5-81F4-4ABD4EF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14D-7864-448F-9C85-B8B884A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044-2895-4298-8A22-29BD833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CC511-A319-41AC-B9BA-E7106EE1A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