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249602"/>
        <c:axId val="22112770"/>
      </c:barChart>
      <c:catAx>
        <c:axId val="472496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112770"/>
        <c:crosses val="autoZero"/>
        <c:auto val="1"/>
        <c:lblAlgn val="ctr"/>
        <c:lblOffset val="100"/>
        <c:noMultiLvlLbl val="0"/>
      </c:catAx>
      <c:valAx>
        <c:axId val="221127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2496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3B9D-DF64-4A35-A6ED-0105CFCB8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3F47-318D-4952-8DEA-D8FCA608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4E0F-C22D-4BF1-A03E-4EF2B18D6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C8E3-C7B9-44D2-8996-6410B9DE1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9704-3E66-4740-8A1F-9A0A5D85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1F7C-A298-406F-AAD7-5C2265BF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CC78-045D-48E2-95DD-D81313C2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45EA-D611-422E-A77D-7477146E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01CF-E85D-4ED0-8AB6-3780E564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DD3D-62EC-4525-9CE9-62491A72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914A-2653-4D5D-B8CC-E3472FED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85BC-270B-4A13-B6C6-921AA19A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7D65C-6B79-47B7-A9C0-DF47443D4A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