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23079"/>
        <c:axId val="83658100"/>
      </c:barChart>
      <c:catAx>
        <c:axId val="84823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58100"/>
        <c:crosses val="autoZero"/>
        <c:auto val="1"/>
        <c:lblAlgn val="ctr"/>
        <c:lblOffset val="100"/>
        <c:noMultiLvlLbl val="0"/>
      </c:catAx>
      <c:valAx>
        <c:axId val="83658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23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07E-4400-48A3-8959-25F6345D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92D-E125-4977-BA66-83273EF8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3D3-D2DE-441F-9859-DAC03990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F5D-CD4F-45A8-B047-5F370E46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9C7-8E05-4BC7-A024-84FDBFBD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481-D581-44CA-A748-632360F7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D18-285E-4A51-B55A-9B90D494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E76-0A94-4BC9-9DFB-5866BAA4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A82-6760-4157-AA32-CA1D0CD1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78F-C735-470C-A1AB-9EE51677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897C-C963-406B-A520-801E4715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FF5-A694-4A25-8464-477D4E9F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183EF-F5D1-4E89-A4D9-FF7D4F67B4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