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82823"/>
        <c:axId val="13048324"/>
      </c:barChart>
      <c:catAx>
        <c:axId val="95782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48324"/>
        <c:crosses val="autoZero"/>
        <c:auto val="1"/>
        <c:lblAlgn val="ctr"/>
        <c:lblOffset val="100"/>
        <c:noMultiLvlLbl val="0"/>
      </c:catAx>
      <c:valAx>
        <c:axId val="13048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82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95A-33DF-4E7A-89D5-5E060A75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65D-779E-4D5B-9B39-DEE317A7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F9B-5047-48EE-8A14-9CE4AE60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75B-FF8A-431D-BBCF-0E2CBD6A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3CC-D973-4A03-B36B-7BCF5789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62A-BA3C-4479-B54D-051C315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93D-275B-41D0-8924-39969040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C6A-79C4-4D6E-B99C-3ADF2ECF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C1D-9C83-4AF8-8174-CD8F4DE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56E-EC73-4594-8BFC-9B064FB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D0E-AE1C-451B-B1A9-2B6353F0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959-609D-48B1-ABA2-2056631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7E3DD-CE6C-4684-B28F-E708387CD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