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71392"/>
        <c:axId val="6980447"/>
      </c:barChart>
      <c:catAx>
        <c:axId val="66271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447"/>
        <c:crosses val="autoZero"/>
        <c:auto val="1"/>
        <c:lblAlgn val="ctr"/>
        <c:lblOffset val="100"/>
        <c:noMultiLvlLbl val="0"/>
      </c:catAx>
      <c:valAx>
        <c:axId val="6980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71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258-DA8F-4F18-A233-3D0F0425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C21-2C4B-47F0-825D-24806F3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930-DCA4-4BE7-8DCE-0A3ED76F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5E4-B548-413A-8A22-914A7C4F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11F-AEA9-4496-9E63-4B679D9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586-5BE6-490A-9C3F-8DB0D89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629-D966-417F-BE45-492C19E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608-9C27-4C1B-B0AC-FD1B93D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451-5408-4D49-A60B-64A6D78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C01-5D51-4055-AB77-6BA0533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131-0B37-4513-BECF-3628C59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C54-6A05-4A7B-948D-F393DF2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0AB94-9ACE-42E7-8404-62B9753E12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