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46149"/>
        <c:axId val="38395629"/>
      </c:barChart>
      <c:catAx>
        <c:axId val="91346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95629"/>
        <c:crosses val="autoZero"/>
        <c:auto val="1"/>
        <c:lblAlgn val="ctr"/>
        <c:lblOffset val="100"/>
        <c:noMultiLvlLbl val="0"/>
      </c:catAx>
      <c:valAx>
        <c:axId val="38395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6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AA0-85FC-4106-85E4-912405C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90F-1B73-40AC-A2E0-595C3491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C26-B475-483F-9D35-F197EB0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0B4-8364-4517-BAD4-20119040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D78-037D-4E1E-96EB-268B1C7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4A6-E829-41D8-96D4-D6D815C3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7FE-FC50-410E-815C-29B6FFE6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C73-5F64-4163-B3D3-188AFD92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7B6-BA0E-4675-B667-09E6E6A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9BB-4687-4F29-9BE8-6F4F563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BEA-378D-489A-B989-A5657AF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F39-A5BF-48EE-89CF-87639EF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8702-4BB2-475F-8BC0-F3BE54336A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