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27253"/>
        <c:axId val="35637994"/>
      </c:barChart>
      <c:catAx>
        <c:axId val="61727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37994"/>
        <c:crosses val="autoZero"/>
        <c:auto val="1"/>
        <c:lblAlgn val="ctr"/>
        <c:lblOffset val="100"/>
        <c:noMultiLvlLbl val="0"/>
      </c:catAx>
      <c:valAx>
        <c:axId val="35637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27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C4CB-CBA5-415A-B74E-12D00675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B40-20FE-4253-9497-1FFFC350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0CA-D2EB-42B6-B743-89BA0B9A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80C-A60C-4BF1-B898-D5DDE9EA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EA9-BA45-418E-A1CE-DA0BD0EB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DC7-E319-4E8F-971B-64399C99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85E-9D66-46CF-9214-62CA320F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EED-4BE9-4973-B202-F1FA748D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FE4-AFC0-410A-873E-D30443C4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B53-70B2-4F73-AED1-B1469C8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075-8C64-47A5-8067-C7C45B3C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EE1-16F9-48F6-8325-815FD94C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49525-D8A8-4C54-8858-F15C7B419C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