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3299"/>
        <c:axId val="32157456"/>
      </c:barChart>
      <c:catAx>
        <c:axId val="80903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57456"/>
        <c:crosses val="autoZero"/>
        <c:auto val="1"/>
        <c:lblAlgn val="ctr"/>
        <c:lblOffset val="100"/>
        <c:noMultiLvlLbl val="0"/>
      </c:catAx>
      <c:valAx>
        <c:axId val="32157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3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AC5-A7E9-45EC-8F6A-EEE1BCE4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0F1-815F-4BD3-B29C-98CCF5F0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410-5358-4C5C-A315-18DEC0BB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92E-43A5-483C-96CD-4C40D39A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4C5-D8CD-4E4C-AB7D-8F9AA715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1EE-BB33-4F87-A6A1-C4DE8015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732-4F05-4F9E-A690-C711710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9C1-6462-4F8E-94CA-44AAE84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282-7B28-476F-9792-06D5FE1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E25-DF42-45DE-B666-40E5CFB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C67-C289-4B7C-B88D-089C8B1F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24B-A3BB-4A53-A4E4-EFF8CCA2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D210B-5E4E-4E07-B4C4-FB5FCDC53B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