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88244"/>
        <c:axId val="12685761"/>
      </c:barChart>
      <c:catAx>
        <c:axId val="79888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5761"/>
        <c:crosses val="autoZero"/>
        <c:auto val="1"/>
        <c:lblAlgn val="ctr"/>
        <c:lblOffset val="100"/>
        <c:noMultiLvlLbl val="0"/>
      </c:catAx>
      <c:valAx>
        <c:axId val="12685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8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6EB-06D5-4911-9036-B0CF5EF5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82C-E7AB-44C5-A787-026022E7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67E-E03F-41F6-8298-0901AAC9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092-CEB3-4ADA-BC92-5BE6E6C4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01E-D4FB-46CE-A5C6-06C4B85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8ED-6F87-4B0B-A77F-BFFE8B52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771-2493-4579-972F-7B23ECC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624-17F8-4396-99BA-0E7F13E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4A3-B23C-4F98-92E7-C96CB22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188-3A39-492D-BA79-0D381A8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AEE-D0B4-4D1B-A214-E7CA04B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5B2-6BC9-4529-AC5A-D80C896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65D39-781C-4937-B733-7DF5A4BCE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