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23226"/>
        <c:axId val="26471396"/>
      </c:barChart>
      <c:catAx>
        <c:axId val="69823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71396"/>
        <c:crosses val="autoZero"/>
        <c:auto val="1"/>
        <c:lblAlgn val="ctr"/>
        <c:lblOffset val="100"/>
        <c:noMultiLvlLbl val="0"/>
      </c:catAx>
      <c:valAx>
        <c:axId val="26471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23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AE0-EA1B-4DB0-8B93-0DBF8D63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476-DAD7-478C-9593-B5743488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865-7A63-4DAE-BC67-6A6CDF92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AA9-8043-4E0B-A64C-471C751C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E89-19E0-414B-A50E-0F0A5B55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C48-DD13-46E8-9014-BAA0997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9C4-4639-4392-9188-56F2BF6C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547-5487-4DC1-B6C6-2BF3907C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AA7-0C0C-4B3D-BE03-26548E76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84C-1E76-48E0-A1CB-730B06F3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DC7-A284-4B99-A3EE-844E3821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F29-3760-474E-9767-1B0709C5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7161D-E0E5-4FB5-86AA-33B6299FF9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