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888075"/>
        <c:axId val="81479767"/>
      </c:barChart>
      <c:catAx>
        <c:axId val="248880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79767"/>
        <c:crosses val="autoZero"/>
        <c:auto val="1"/>
        <c:lblAlgn val="ctr"/>
        <c:lblOffset val="100"/>
        <c:noMultiLvlLbl val="0"/>
      </c:catAx>
      <c:valAx>
        <c:axId val="814797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880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908F-BD94-438E-B6C9-C775B631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B04F-F3B1-4474-9F6B-FB46B730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A84F-D9E0-4C0D-ACB2-735EBC35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1267-245D-42A0-88D0-2A9AA1399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7312-AB2B-4BB9-9885-6D0DCC06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21D6-A022-4476-83A3-0E1DE9A6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93AC-DA9B-4718-90ED-9AED3AD1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6431-8183-4AC1-B482-35DF24E6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01DC-50EB-4E8C-AE95-E877DAD0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15A6-877C-4C69-A23C-3AA86E8A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6EFB-333A-4B3C-B4D2-C837A9EB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87D8-CAA9-456E-A74E-8B58C130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C33AE-BD42-4C6E-9367-CBBD33E2A6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